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4.png" ContentType="image/png"/>
  <Override PartName="/ppt/media/image10.jpeg" ContentType="image/jpeg"/>
  <Override PartName="/ppt/media/image2.gif" ContentType="image/gi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FD7A-F323-43C2-A88A-872C565C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E41D-0F89-46B9-A5E0-606A351D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2A36-D593-4F5A-815D-DD0FBFB9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FB84-2425-4F0B-B978-DADFA3D1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C1CA-B764-4145-9381-4E7DC899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EB0C-0BEC-4DFB-A3D3-68BB5049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60B-C4A2-40C0-BDF4-C5FC5550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F0A0-B4C5-4B68-AE93-644203C1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9B38-AF0B-423A-B8C1-BB1C6F40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B3EB-D1A7-4891-81EE-D2F16D12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86F-5944-47C1-BBF2-F7FE2B72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FF5-D36E-444E-9647-83A62141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29D10-3EFE-4E04-B2C1-FB8474FB1A8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280" y="1282320"/>
            <a:ext cx="9070920" cy="19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6000" spc="-1" strike="noStrike">
                <a:solidFill>
                  <a:srgbClr val="ff3333"/>
                </a:solidFill>
                <a:latin typeface="Lucida Handwriting"/>
              </a:rPr>
              <a:t>American &amp; British</a:t>
            </a:r>
            <a:br>
              <a:rPr sz="6000"/>
            </a:br>
            <a:r>
              <a:rPr b="0" lang="it-IT" sz="6000" spc="-1" strike="noStrike">
                <a:solidFill>
                  <a:srgbClr val="ff3333"/>
                </a:solidFill>
                <a:latin typeface="Lucida Handwriting"/>
              </a:rPr>
              <a:t>Pr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659280" y="526680"/>
            <a:ext cx="2879640" cy="7032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c5000b"/>
                </a:solidFill>
                <a:latin typeface="Blackadder ITC"/>
              </a:rPr>
              <a:t>English project by Chiara Cirillo &amp; Irene Pape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199280" y="2700360"/>
            <a:ext cx="2160720" cy="2519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60360" y="3419640"/>
            <a:ext cx="3060720" cy="3860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155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1155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8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115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8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115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8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640" y="900000"/>
            <a:ext cx="5291280" cy="6120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n Britain and also in America there are a lot of newspeaper but which treat about politics? Which about business? Which about gossip? Which about sport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299280" y="720720"/>
            <a:ext cx="3779640" cy="5759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336600"/>
            <a:ext cx="9899640" cy="1192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The American Press</a:t>
            </a:r>
            <a:br>
              <a:rPr sz="4400"/>
            </a:br>
            <a:r>
              <a:rPr b="1" i="1" lang="it-IT" sz="3200" spc="-1" strike="noStrike">
                <a:solidFill>
                  <a:srgbClr val="b84700"/>
                </a:solidFill>
                <a:latin typeface="Comic Sans MS"/>
              </a:rPr>
              <a:t>Which kind of journal do american people 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23004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WSPAP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- The New York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- The Wall Street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- USA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- The Washington P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9280" y="5400720"/>
            <a:ext cx="3060720" cy="1995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19640" y="2030400"/>
            <a:ext cx="3419640" cy="517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79640" y="313920"/>
            <a:ext cx="6119640" cy="62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2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ndalus"/>
              </a:rPr>
              <a:t>NAGAZINES &amp; TABLOI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ndalus"/>
              </a:rPr>
              <a:t>- New York P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ndalus"/>
              </a:rPr>
              <a:t>- New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ndalus"/>
              </a:rPr>
              <a:t>- The O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ndalus"/>
              </a:rPr>
              <a:t>- The New Y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ndalus"/>
              </a:rPr>
              <a:t>- Time &amp; News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ndalus"/>
              </a:rPr>
              <a:t>- Rolling 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ndalus"/>
              </a:rPr>
              <a:t>- People, US weekly, In To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60360" y="598320"/>
            <a:ext cx="3240000" cy="3002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0"/>
            <a:ext cx="9070920" cy="189864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400" spc="-1" strike="noStrike">
                <a:solidFill>
                  <a:srgbClr val="3deb3d"/>
                </a:solidFill>
                <a:latin typeface="Arial"/>
              </a:rPr>
              <a:t>The British Press</a:t>
            </a:r>
            <a:br>
              <a:rPr sz="5400"/>
            </a:br>
            <a:r>
              <a:rPr b="0" lang="it-IT" sz="4000" spc="-1" strike="noStrike">
                <a:solidFill>
                  <a:srgbClr val="33cc66"/>
                </a:solidFill>
                <a:latin typeface="Arial"/>
              </a:rPr>
              <a:t>The readers could choose between “quality” newspapers or tabloi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8920" y="2879280"/>
            <a:ext cx="59403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666666"/>
                </a:solidFill>
                <a:latin typeface="Bradley Hand ITC"/>
              </a:rPr>
              <a:t>QUALITY NEWSPAPERS</a:t>
            </a:r>
            <a:r>
              <a:rPr b="1" lang="it-IT" sz="4000" spc="-1" strike="noStrike">
                <a:solidFill>
                  <a:srgbClr val="666666"/>
                </a:solidFill>
                <a:latin typeface="Bradley Hand ITC"/>
              </a:rPr>
              <a:t> </a:t>
            </a:r>
            <a:r>
              <a:rPr b="1" i="1" lang="it-IT" sz="4000" spc="-1" strike="noStrike">
                <a:solidFill>
                  <a:srgbClr val="666666"/>
                </a:solidFill>
                <a:latin typeface="Bradley Hand ITC"/>
              </a:rPr>
              <a:t>a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4000" spc="-1" strike="noStrike">
                <a:solidFill>
                  <a:srgbClr val="666666"/>
                </a:solidFill>
                <a:latin typeface="Bradley Hand ITC"/>
              </a:rPr>
              <a:t>- The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4000" spc="-1" strike="noStrike">
                <a:solidFill>
                  <a:srgbClr val="666666"/>
                </a:solidFill>
                <a:latin typeface="Bradley Hand ITC"/>
              </a:rPr>
              <a:t>- The Guard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4000" spc="-1" strike="noStrike">
                <a:solidFill>
                  <a:srgbClr val="666666"/>
                </a:solidFill>
                <a:latin typeface="Bradley Hand ITC"/>
              </a:rPr>
              <a:t>- The Indipend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2158920"/>
            <a:ext cx="395928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60720" y="720360"/>
            <a:ext cx="4500720" cy="648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4000"/>
          </a:bodyPr>
          <a:p>
            <a:pPr marL="405720" indent="-30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pperplate Gothic Bold"/>
              </a:rPr>
              <a:t>TABLOI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11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5400" spc="-1" strike="noStrike">
                <a:solidFill>
                  <a:srgbClr val="000000"/>
                </a:solidFill>
                <a:latin typeface="Curlz MT"/>
              </a:rPr>
              <a:t>- Daily Mai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11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5400" spc="-1" strike="noStrike">
                <a:solidFill>
                  <a:srgbClr val="000000"/>
                </a:solidFill>
                <a:latin typeface="Curlz MT"/>
              </a:rPr>
              <a:t>- Daily Expr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11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5400" spc="-1" strike="noStrike">
                <a:solidFill>
                  <a:srgbClr val="000000"/>
                </a:solidFill>
                <a:latin typeface="Curlz MT"/>
              </a:rPr>
              <a:t>- Daily Mirr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11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5400" spc="-1" strike="noStrike">
                <a:solidFill>
                  <a:srgbClr val="000000"/>
                </a:solidFill>
                <a:latin typeface="Curlz MT"/>
              </a:rPr>
              <a:t>- Daily St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11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5400" spc="-1" strike="noStrike">
                <a:solidFill>
                  <a:srgbClr val="000000"/>
                </a:solidFill>
                <a:latin typeface="Curlz MT"/>
              </a:rPr>
              <a:t>- Su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2519640" cy="341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738920" y="3959280"/>
            <a:ext cx="234000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960120"/>
            <a:ext cx="907092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Lucida Handwriting"/>
              </a:rPr>
              <a:t>There are also the “popular Sunday” and the “quality Sunday” newspap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920" y="3779640"/>
            <a:ext cx="547236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Felix Titling"/>
              </a:rPr>
              <a:t>Sunday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Felix Titling"/>
              </a:rPr>
              <a:t>Sunday Tele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Felix Titling"/>
              </a:rPr>
              <a:t>Ob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759280" y="3780000"/>
            <a:ext cx="414036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193400"/>
            <a:ext cx="907092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We could find a lot of weekly and monthly magazines specialized i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0360" y="2839680"/>
            <a:ext cx="9070920" cy="183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Bradley Hand ITC"/>
              </a:rPr>
              <a:t>Astrology, computers, science, cookery, fashion and so on (</a:t>
            </a:r>
            <a:r>
              <a:rPr b="1" i="1" lang="it-IT" sz="3600" spc="-1" strike="noStrike">
                <a:solidFill>
                  <a:srgbClr val="000000"/>
                </a:solidFill>
                <a:latin typeface="Bradley Hand ITC"/>
              </a:rPr>
              <a:t>Time Out</a:t>
            </a:r>
            <a:r>
              <a:rPr b="1" lang="it-IT" sz="3600" spc="-1" strike="noStrike">
                <a:solidFill>
                  <a:srgbClr val="000000"/>
                </a:solidFill>
                <a:latin typeface="Bradley Hand ITC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879640" y="4319640"/>
            <a:ext cx="4500720" cy="30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2:05:05Z</dcterms:created>
  <dc:creator>chiara cirillo</dc:creator>
  <dc:description/>
  <dc:language>en-US</dc:language>
  <cp:lastModifiedBy>chiara cirillo</cp:lastModifiedBy>
  <dcterms:modified xsi:type="dcterms:W3CDTF">2009-02-25T22:49:06Z</dcterms:modified>
  <cp:revision>4</cp:revision>
  <dc:subject/>
  <dc:title/>
</cp:coreProperties>
</file>